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D12-8480-45EB-BB8E-6017E4D9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0C0-A52B-495D-806D-77719512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8C0-1F0C-4053-8C49-7FF62ECA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EED-03F0-4FCA-8652-2E4EB702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3C2F-BB93-4384-860F-0C8F3D04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A37-68CF-4F55-9FC8-8FDBE7F1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AC8-2D14-4866-88C7-CE270644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1F0-CCE0-4C80-9D3C-38B2DBCE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549-A2D2-4DA2-951B-D45DE8CC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2D5-A72D-44B0-8807-07349490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5C2-1428-4388-8646-2BB97FAA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DA6-2525-44F9-A050-163B594E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18"/>
            </a:gs>
            <a:gs pos="100000">
              <a:srgbClr val="ff41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9918-2B70-4B2D-8B95-74BE6353C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18"/>
            </a:gs>
            <a:gs pos="100000">
              <a:srgbClr val="ff41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Oil pollu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haela Sta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18"/>
            </a:gs>
            <a:gs pos="100000">
              <a:srgbClr val="ff41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s making a bad choice in the ro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2870280" cy="1981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76240" y="411480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18"/>
            </a:gs>
            <a:gs pos="100000">
              <a:srgbClr val="ff41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rric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rricane happening and putting oil in the clean ocean and making it b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18"/>
            </a:gs>
            <a:gs pos="100000">
              <a:srgbClr val="ff41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cks &amp; Other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baby duck covered in 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49520" y="1981080"/>
            <a:ext cx="2243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18"/>
            </a:gs>
            <a:gs pos="100000">
              <a:srgbClr val="ff41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ing 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by seal in lots of 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108160"/>
            <a:ext cx="38098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18"/>
            </a:gs>
            <a:gs pos="100000">
              <a:srgbClr val="ff41a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ING 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ck saying STOP OIL POL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2674800"/>
            <a:ext cx="380988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20:15Z</dcterms:created>
  <dc:creator>Durling Clearview</dc:creator>
  <dc:description/>
  <dc:language>en-US</dc:language>
  <cp:lastModifiedBy>Durling Clearview</cp:lastModifiedBy>
  <dcterms:modified xsi:type="dcterms:W3CDTF">2009-12-17T14:06:28Z</dcterms:modified>
  <cp:revision>3</cp:revision>
  <dc:subject/>
  <dc:title>Oil pollution</dc:title>
</cp:coreProperties>
</file>